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A3B-3F91-4003-B97C-DD51E9A9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6C6-05EE-43BE-913A-00DA957E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D3C-CF46-4830-8A8B-F8AE722F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7D7-F175-4626-99CD-F6119672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AC6-E7EC-4144-994C-1D51FE00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1CF-2029-46AC-9D26-125C7D08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CFE-C4C4-4773-AEB8-0A32E69B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9DDD-C0DA-4EAA-8176-8C593042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D6A-A7F7-403E-A6AB-421D1A68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2E0-ECD8-45E7-B75F-35683F27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186-153C-4B08-92F1-24496DBF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E58-3384-44E7-B087-48FFF16A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A3C6-FA3C-4671-93BD-74D578A2593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6" descr=""/>
          <p:cNvPicPr/>
          <p:nvPr/>
        </p:nvPicPr>
        <p:blipFill>
          <a:blip r:embed="rId2"/>
          <a:stretch/>
        </p:blipFill>
        <p:spPr>
          <a:xfrm>
            <a:off x="6659640" y="1440"/>
            <a:ext cx="2468520" cy="822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9520" y="163440"/>
            <a:ext cx="187020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075280" cy="255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03640" y="5445000"/>
            <a:ext cx="370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750" t="0" r="15581" b="90229"/>
          <a:stretch/>
        </p:blipFill>
        <p:spPr>
          <a:xfrm>
            <a:off x="3708360" y="2924280"/>
            <a:ext cx="5292720" cy="93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ntrevista a A. Ca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1040" y="1484280"/>
            <a:ext cx="756720" cy="246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349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197000"/>
            <a:ext cx="143964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6237" t="0" r="11923" b="20666"/>
          <a:stretch/>
        </p:blipFill>
        <p:spPr>
          <a:xfrm>
            <a:off x="2771640" y="2637000"/>
            <a:ext cx="2695680" cy="388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7773" t="6857" r="12067" b="15043"/>
          <a:stretch/>
        </p:blipFill>
        <p:spPr>
          <a:xfrm>
            <a:off x="468360" y="1844640"/>
            <a:ext cx="2822400" cy="388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4360" y="1844640"/>
            <a:ext cx="3024360" cy="2305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73760" y="580536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6320" y="4221000"/>
            <a:ext cx="738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 u="sng">
                <a:solidFill>
                  <a:srgbClr val="000000"/>
                </a:solidFill>
                <a:uFillTx/>
                <a:latin typeface="Arial"/>
              </a:rPr>
              <a:t>Web: inese.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2605320" cy="3672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474840" y="1052640"/>
            <a:ext cx="150948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sponsabl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1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544840" cy="3586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11169" r="0" b="0"/>
          <a:stretch/>
        </p:blipFill>
        <p:spPr>
          <a:xfrm>
            <a:off x="5940360" y="1989000"/>
            <a:ext cx="2521080" cy="1774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00680" y="5607000"/>
            <a:ext cx="860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Artículo comple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9440" y="3789360"/>
            <a:ext cx="36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Web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05264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-10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768480" cy="5048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rcRect l="7020" t="0" r="15913" b="0"/>
          <a:stretch/>
        </p:blipFill>
        <p:spPr>
          <a:xfrm>
            <a:off x="4067280" y="2565360"/>
            <a:ext cx="496872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620640"/>
            <a:ext cx="720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fusión del a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33046" t="13252" r="30429" b="8111"/>
          <a:stretch/>
        </p:blipFill>
        <p:spPr>
          <a:xfrm>
            <a:off x="4716360" y="1484280"/>
            <a:ext cx="344196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rcRect l="33334" t="14476" r="30477" b="10095"/>
          <a:stretch/>
        </p:blipFill>
        <p:spPr>
          <a:xfrm>
            <a:off x="324000" y="1413000"/>
            <a:ext cx="3554280" cy="4630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24000" y="4365720"/>
            <a:ext cx="792000" cy="1800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07920"/>
            <a:ext cx="134136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-10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907920"/>
            <a:ext cx="134172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an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-11-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5254560" cy="4054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2276640"/>
            <a:ext cx="1008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04:46Z</dcterms:created>
  <dc:creator>u2498325</dc:creator>
  <dc:description/>
  <dc:language>en-US</dc:language>
  <cp:lastModifiedBy>U2499960</cp:lastModifiedBy>
  <dcterms:modified xsi:type="dcterms:W3CDTF">2011-12-05T09:21:55Z</dcterms:modified>
  <cp:revision>16</cp:revision>
  <dc:subject/>
  <dc:title>Diapositiva 1</dc:title>
</cp:coreProperties>
</file>